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597F-908B-441C-A7B2-B1C5998D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94F-BB23-420C-946A-6CD248C4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203-3CD5-410D-B7CA-6E5F36C7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F82A-5FF0-425A-B785-5C8B4483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B72-6BFC-403F-BB8C-541EC73E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5230-922A-4626-9748-9B523D57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B0A7-C28E-4392-B12B-6D95BBE5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90EC-00FA-4B16-9BD3-0D6B6CC0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3CE-3710-4A7A-A062-72A51D5F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62F-5D93-4BC8-82CE-6B4AD682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8FE-43E6-4378-AD13-2ED06C02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1AE-2468-4E01-A49F-8B12D5FF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36E3-99CE-4B15-BAA4-78301489A5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Vad skall jag bli när jag blir stor</a:t>
            </a:r>
            <a:r>
              <a:rPr b="1" lang="pt-BR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Comic Sans MS"/>
              </a:rPr>
              <a:t>Balleri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600200"/>
            <a:ext cx="670572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ff33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ej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ff33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33920" y="57146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6000" spc="-1" strike="noStrike">
                <a:solidFill>
                  <a:srgbClr val="ccecff"/>
                </a:solidFill>
                <a:latin typeface="Comic Sans MS"/>
              </a:rPr>
              <a:t>Sjukskötersk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43000" y="1600200"/>
            <a:ext cx="670572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ff33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ej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ff33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Comic Sans MS"/>
              </a:rPr>
              <a:t>Che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43000" y="1600200"/>
            <a:ext cx="670572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ff33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ej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ff33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57146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Comic Sans MS"/>
              </a:rPr>
              <a:t>Trollkonstnä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3000" y="1600200"/>
            <a:ext cx="670572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ff33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ej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ff33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Comic Sans MS"/>
              </a:rPr>
              <a:t>Brandma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600200"/>
            <a:ext cx="670572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ff33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ej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ff33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Comic Sans MS"/>
              </a:rPr>
              <a:t>Popstjär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600200"/>
            <a:ext cx="670572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ff33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ej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ff33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54864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Comic Sans MS"/>
              </a:rPr>
              <a:t>Kommunalanstäl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43000" y="1600200"/>
            <a:ext cx="670572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ff33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Ja!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ff33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54864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Comic Sans MS"/>
              </a:rPr>
              <a:t>Kommunalanstäl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8:09:59Z</dcterms:created>
  <dc:creator>p915061</dc:creator>
  <dc:description/>
  <dc:language>en-US</dc:language>
  <cp:lastModifiedBy>.</cp:lastModifiedBy>
  <dcterms:modified xsi:type="dcterms:W3CDTF">2003-12-04T16:20:52Z</dcterms:modified>
  <cp:revision>13</cp:revision>
  <dc:subject/>
  <dc:title>Que profissão devo seguir.... </dc:title>
</cp:coreProperties>
</file>