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22C8-7FA6-4DBC-BD52-636AA6F3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1B4-F3C7-4348-BB42-EFDBB401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71B-1445-4AA4-9038-DAAE6312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1416-8D11-4751-B65B-26081A6B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BA4-CC9A-492E-8C86-B6E683D4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D4C-99B8-4368-80B0-2734939C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59A-0F05-483F-A6D8-A06CFEF5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DAD-6715-46C8-8791-8643B405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721B-16BF-4DFB-ACAD-F3FD2D0E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4DCF-7FB2-425E-AC2F-7D73606D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D09-4DA1-4C7D-8F94-7C62D4B2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E82-8BFC-48C3-9E47-71E7004E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60A4-692E-4777-A618-5383AD1D6DC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Vad skall jag bli när jag blir stor</a:t>
            </a:r>
            <a:r>
              <a:rPr b="1" lang="pt-BR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Comic Sans MS"/>
              </a:rPr>
              <a:t>Balleri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600200"/>
            <a:ext cx="670572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ff33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ej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ff33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33920" y="57146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6000" spc="-1" strike="noStrike">
                <a:solidFill>
                  <a:srgbClr val="ccecff"/>
                </a:solidFill>
                <a:latin typeface="Comic Sans MS"/>
              </a:rPr>
              <a:t>Sjukskötersk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43000" y="1600200"/>
            <a:ext cx="670572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ff33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ej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ff33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Comic Sans MS"/>
              </a:rPr>
              <a:t>Che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43000" y="1600200"/>
            <a:ext cx="670572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ff33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ej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ff33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57146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Comic Sans MS"/>
              </a:rPr>
              <a:t>Trollkonstnä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3000" y="1600200"/>
            <a:ext cx="670572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ff33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ej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ff33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Comic Sans MS"/>
              </a:rPr>
              <a:t>Brandma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600200"/>
            <a:ext cx="670572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ff33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ej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ff33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Comic Sans MS"/>
              </a:rPr>
              <a:t>Popstjär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600200"/>
            <a:ext cx="670572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ff33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ej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ff33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54864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Comic Sans MS"/>
              </a:rPr>
              <a:t>Kommunalanstäl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43000" y="1600200"/>
            <a:ext cx="670572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ff33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Ja!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ff33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54864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Comic Sans MS"/>
              </a:rPr>
              <a:t>Kommunalanstäl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8:09:59Z</dcterms:created>
  <dc:creator>p915061</dc:creator>
  <dc:description/>
  <dc:language>en-US</dc:language>
  <cp:lastModifiedBy>.</cp:lastModifiedBy>
  <dcterms:modified xsi:type="dcterms:W3CDTF">2003-12-04T16:20:52Z</dcterms:modified>
  <cp:revision>13</cp:revision>
  <dc:subject/>
  <dc:title>Que profissão devo seguir.... </dc:title>
</cp:coreProperties>
</file>